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513-87E6-4590-BFB5-516FAE7C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6BE-4C94-4A3E-ACC5-ACA2D64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E2E-136F-44CC-B013-AB3206AD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857-B9C0-430F-BBE0-648E54F6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6D34-D7E6-4042-B518-826A1564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9F15-5D69-4BA9-AE71-7A08571D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11D-2582-406C-A3EF-8FE48B4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BA3-62A4-4334-B4D5-F0B8ED71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36A2-20E6-474A-9DD3-846BAD7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0C4-CF03-40A8-AFB1-CBB0424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451D-B621-4E68-B8C3-5E8744F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8C7-A79F-4548-89BE-23FC07B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571-0923-49EC-8432-62418994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55E3-D25B-4A07-820F-E7AD2058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3DBD-4D36-4A69-9F2E-D5626194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4AF0-5716-453D-B0A0-FF36C4B2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94C-942D-4B96-A4B4-5BC5EFE3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DD4-7592-461E-A5BC-706AE119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C28-C5EE-46F0-9C97-C630C7EE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FEC-4FA5-4482-A05F-ECD3BB5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A22-8CCC-4123-B4F1-8E6C45E3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426-1BBF-49F4-A57A-8081793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104-A9AD-4076-823F-C1EC7E0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317-9C75-4B5F-9540-35CFAE4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035C-DCEC-49E7-8120-67608F9F8F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DC57-0992-4E20-8973-843B92EB39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8370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 Remnant Shall Retur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, 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10-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1295280"/>
            <a:ext cx="2257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are her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2666880"/>
            <a:ext cx="1143000" cy="1143000"/>
          </a:xfrm>
          <a:prstGeom prst="rect">
            <a:avLst/>
          </a:prstGeom>
          <a:noFill/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648320"/>
            <a:ext cx="2286000" cy="3808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Book of Malachi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5345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dah is guilty of ritualism and vain formalism – 1:1-2: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iests’ S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dishonor God’s holy name –  1:6,11,14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offer polluted sacrifices –  1:7-10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have forsaken their covenant with God – 2:1-9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Condemns Judah’s Marital Sins – 2:10-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are untrue to each other – 2:1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divorce their wives – 2:13-1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marry pagan wives – 2:11-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Book of Malachi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essenger of the covenant is predicted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:17 – 3: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ir present disposition will make them unprepared for the Messia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Call to Repentance – 3:7-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repented – 3:16-1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 again God promises the day of the Lord –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:1-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 will punish the wicked – 4: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will be joy for those who see the Sun of Righteousness – 4:2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ijah (who was John the Baptist) would come first – 4:5-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Old Testament Records Clos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still has plans to fulfil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mise to Abraham – Gen.12: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ising up the house of David – Amos 9:11-1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essiah will come as predi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01:20:18Z</dcterms:created>
  <dc:creator>Terry W. Benton</dc:creator>
  <dc:description/>
  <dc:language>en-US</dc:language>
  <cp:lastModifiedBy>Frank D Vines</cp:lastModifiedBy>
  <dcterms:modified xsi:type="dcterms:W3CDTF">2006-05-31T15:39:35Z</dcterms:modified>
  <cp:revision>4</cp:revision>
  <dc:subject/>
  <dc:title>A Remnant Shall Return</dc:title>
</cp:coreProperties>
</file>